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D061E2-966E-458E-B0C2-1CF8C1263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91A328-3B53-4762-877B-1CB276AD4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B630DC-DC78-4E4B-BC0C-E43FCBC0A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A894E7-6E3D-4B71-B43B-329CF1F02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16E3D-C6B7-4BB3-9ECF-BDAC80B95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10CEC-F606-40C3-AE78-FC55AB818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C3FF4-A167-4E0F-B4C4-E45D78D13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86871-0E0A-4F44-8EB2-176E4005C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D85BF-CA16-4E4B-8F04-56031A0D8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17F0F-9C4A-4E8E-8400-571006614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B699B-958A-4EA9-969C-EB9E2497B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7B5F78-437E-487B-B941-5BA2C2DAE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D4C1F-2A7A-4F71-AB83-83E8B307C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FCD86-5288-47B2-A5A0-B75434924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EF4F5-91C9-4894-95D9-285C31B96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C4E74-7E29-45C7-9956-EF63BCDB4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AB19E-28A1-4337-9D47-FC83E4BA9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49E90D-6B0C-4895-BBEA-CBF18FBBF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380C81-7C13-496D-A724-AD722CD47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DE52ED-E81B-4933-8B75-9E6C8E5B6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2A2833-140A-4671-8D24-BEF35D41F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9E843F-DA8A-4808-981B-6478CC3A1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F6C197-C1CE-41D6-BAE1-41E3D9068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AB2EE9-54D6-473A-B81C-598231C3B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57D4C-0F4E-42EA-864B-74BF17111B4C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5C2A9-D016-46F6-B635-BD0E8CA100ED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4"/>
          <p:cNvSpPr/>
          <p:nvPr/>
        </p:nvSpPr>
        <p:spPr>
          <a:xfrm>
            <a:off x="-252360" y="230400"/>
            <a:ext cx="957744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18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8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(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545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Свят да съм желая,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всякога по-свят;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Бога да позная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както съм познат.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Чист да съм и по-чист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във сърце и ум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верен и по-верен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всякога да съм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1/</a:t>
            </a:r>
            <a:r>
              <a:rPr b="1" lang="bg-BG" sz="20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"/>
          <p:cNvSpPr/>
          <p:nvPr/>
        </p:nvSpPr>
        <p:spPr>
          <a:xfrm>
            <a:off x="-252360" y="501480"/>
            <a:ext cx="9577440" cy="56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2. Все да се надея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Богу моему,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всичко да открия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пред очите Му;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Нему да възложа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всички си беди –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туй, що днес е тъмно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Той ще изясни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Garamond"/>
              </a:rPr>
              <a:t>2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/</a:t>
            </a:r>
            <a:r>
              <a:rPr b="1" lang="bg-BG" sz="20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2"/>
          <p:cNvSpPr/>
          <p:nvPr/>
        </p:nvSpPr>
        <p:spPr>
          <a:xfrm>
            <a:off x="-252360" y="523800"/>
            <a:ext cx="9577440" cy="559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3. Тихо и по-тихо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скърби да търпя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верно и по-верно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в пътя да вървя.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Всеки ден да нося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с радост кръста свой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с вяра, че ще стигна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после на покой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Garamond"/>
              </a:rPr>
              <a:t>3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/</a:t>
            </a:r>
            <a:r>
              <a:rPr b="1" lang="bg-BG" sz="20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"/>
          <p:cNvSpPr/>
          <p:nvPr/>
        </p:nvSpPr>
        <p:spPr>
          <a:xfrm>
            <a:off x="-252360" y="514800"/>
            <a:ext cx="9577440" cy="56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4. Горе и по-горе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вън от тъмнина!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Близо, все по-близо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до виделина!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Видело пресвято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Там ще съм блажен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и от грях напълно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чист и осветен!</a:t>
            </a:r>
            <a:r>
              <a:rPr b="0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Garamond"/>
              </a:rPr>
              <a:t>4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/</a:t>
            </a:r>
            <a:r>
              <a:rPr b="1" lang="bg-BG" sz="20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7T20:03:35Z</dcterms:created>
  <dc:creator>123</dc:creator>
  <dc:description/>
  <dc:language>en-US</dc:language>
  <cp:lastModifiedBy>SDA</cp:lastModifiedBy>
  <dcterms:modified xsi:type="dcterms:W3CDTF">2009-09-05T07:47:24Z</dcterms:modified>
  <cp:revision>121</cp:revision>
  <dc:subject/>
  <dc:title>Slide 1</dc:title>
</cp:coreProperties>
</file>